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C00-9DA1-4C7B-9E55-5BA0B46D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4BA-0641-4E49-8AD1-1A363B63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E28-B62B-4A25-9BD6-38F4D4B4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266-C275-4E87-874A-7A9F3156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4EA-F608-447F-A745-481C5B12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F3D-FA69-4EED-998D-0F774FB8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952-2DA2-44F4-8F32-96A966B5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29B-4D22-4D23-B217-A2BEC6BD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074-A2D0-4696-8BD1-80289558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3FF-0D8A-4224-BB22-BF286903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A48-7E77-4941-9D9A-4CE6109F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3A6-06DF-4D14-9D7B-E29C450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D2B9-E238-4731-8A32-0ADE9166E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asa para la Ven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971800" cy="197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106668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asa grande es muy bonita. Tinene viente cuartos. La casa es en Las Angeles, CA. La casa tiene diez dormitorios. Cuesta mucho. Cuesta $24,000,000.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4:13:04Z</dcterms:created>
  <dc:creator>wilsonaleah</dc:creator>
  <dc:description/>
  <dc:language>en-US</dc:language>
  <cp:lastModifiedBy>wilsonaleah</cp:lastModifiedBy>
  <dcterms:modified xsi:type="dcterms:W3CDTF">2012-05-22T17:21:09Z</dcterms:modified>
  <cp:revision>4</cp:revision>
  <dc:subject/>
  <dc:title>La casa para la Venta </dc:title>
</cp:coreProperties>
</file>